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EBF-96D0-467C-9A80-ACEED56B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32C-6629-4786-BFDC-F4B4E6F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9EC-979E-40EA-BC6F-8532A1F9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3B8-C183-4984-B36B-AC888F2D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D86-91E5-41EB-976E-1A319B4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960-547C-41CF-AA66-5472EC2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4B5-0205-41B5-9723-9B4E5401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DC9-B36E-49B3-B9E0-66900C8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310-BA13-4D35-80D8-06B2471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B48-4EC7-41F9-B7A8-E5F131C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759-67E2-4B28-8DC4-A2E3A5B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DD8-FCC5-4113-AF79-D12C6ED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29AB-5CF6-4672-B235-CFCB717F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ulu.com/" TargetMode="External"/><Relationship Id="rId2" Type="http://schemas.openxmlformats.org/officeDocument/2006/relationships/hyperlink" Target="http://www.hulu.com/watch/68815/war-stories-with-oliver-north-berlin---standoff-behind-the-iron-curtain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ras Light ITC"/>
              </a:rPr>
              <a:t>1945-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Cold War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ugust 13, 1961 the border of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osed…this must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 which Soviet le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kita Krush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351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638680" y="579132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ne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181480" cy="3976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3962520"/>
            <a:ext cx="769608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ly because…in Sept of 1959, w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ing the U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denied entranc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piest place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609480"/>
            <a:ext cx="4038480" cy="3048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457200"/>
            <a:ext cx="57909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 Eisenhower: U2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715000" cy="514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495680"/>
            <a:ext cx="769608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ost likely a reaction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caught spying on hi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hat is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969920"/>
            <a:ext cx="7391520" cy="465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5562720"/>
            <a:ext cx="5791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 WALL 1961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52280"/>
            <a:ext cx="769644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ugust 17, 1961…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nstructed as a visual reminder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Curta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0"/>
            <a:ext cx="556272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lu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Stories with Oliver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24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ulu.com/watch/68815/war-stories-with-oliver-north-berlin---standoff-behind-the-iron-cur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13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0" r="0" b="4781"/>
          <a:stretch/>
        </p:blipFill>
        <p:spPr>
          <a:xfrm>
            <a:off x="4952880" y="762120"/>
            <a:ext cx="3262320" cy="464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0920" y="609480"/>
            <a:ext cx="2286000" cy="18288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3657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hail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5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334120"/>
            <a:ext cx="36576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is Yelt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838080"/>
            <a:ext cx="3048120" cy="1295640"/>
          </a:xfrm>
          <a:prstGeom prst="wedgeRectCallout">
            <a:avLst>
              <a:gd name="adj1" fmla="val -33074"/>
              <a:gd name="adj2" fmla="val 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244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3976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PLE OF THINGS LEAD TO THE END OF THE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Gorbachev becomes leader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SR, favor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as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pen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Germans tear down the Berlin Wall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 Soviets and USA unite to fight Sadd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Gulf War (Jan 16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eb 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99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o you 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ABC cards to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19810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895480"/>
            <a:ext cx="1981440" cy="281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895480"/>
            <a:ext cx="198108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nd when did it all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272088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2771640" cy="2152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43000"/>
            <a:ext cx="61722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first introduced Commu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Russian Soci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d this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590920"/>
            <a:ext cx="4114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ladimir Lenin: 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267080"/>
            <a:ext cx="61722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id the Russian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sm?  Describe their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this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ssian = Desperate:  WWI had made them poor =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41529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ost-WWII Meeting set the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uture conflict 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SR &amp;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2133720"/>
            <a:ext cx="4114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alta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9568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2670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decisions made at Y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ow did they set the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uture Cold War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80880"/>
            <a:ext cx="61722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A/USSR Fought 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Germany pay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If Poland would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If the rest of Europe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If Russia would help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5105520" cy="48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419360" cy="3975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33720" y="3581280"/>
            <a:ext cx="2743200" cy="1295640"/>
          </a:xfrm>
          <a:prstGeom prst="line">
            <a:avLst/>
          </a:prstGeom>
          <a:ln w="130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decision in referen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fa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36248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09680" y="3276720"/>
            <a:ext cx="6477120" cy="2133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what meeting did we tell 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the Atomic Bomb?  What w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of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04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sdam Conference (1945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rms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5715000" cy="3552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80880"/>
            <a:ext cx="647712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id Stalin blockade the commu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 of Berlin?  What w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ed Powers’ respo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724280"/>
            <a:ext cx="784872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mad that G.B. France and USA united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es = were we gaining up on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tart supplying W.Berlin’s people via the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lift (1948-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09:03Z</dcterms:created>
  <dc:creator>Administrator</dc:creator>
  <dc:description/>
  <dc:language>en-US</dc:language>
  <cp:lastModifiedBy>IT Department</cp:lastModifiedBy>
  <dcterms:modified xsi:type="dcterms:W3CDTF">2012-02-22T13:17:14Z</dcterms:modified>
  <cp:revision>15</cp:revision>
  <dc:subject/>
  <dc:title>The End of The Cold War</dc:title>
</cp:coreProperties>
</file>